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C999-7A3B-4A9D-B177-79DB831E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F5D-0C58-4771-BB7F-42DAF33F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CBC-A47B-43DB-A78C-3B7150EB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8286-844A-497A-AFB5-9B10A77E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9CCC-8A30-4FC5-BF7C-2517D616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AD79-902A-4E43-B603-FE9A1274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3A95-6982-45D4-A99F-1F44B644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2B73-AF7F-4ECE-BE36-AD9DFBCF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CD8-5D8D-4203-90C8-C899209D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9DDA-4051-4736-94D7-C389C3B9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5CA-7377-4096-BD6C-DA4EA48C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04CD-920A-4113-BE45-140A597E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EE35-2DF4-45C3-8A1B-4D72ECB99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2/2a/MarkAntony1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2286000"/>
            <a:ext cx="85345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« Установление импери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5257800"/>
            <a:ext cx="5791320" cy="1600200"/>
          </a:xfrm>
          <a:prstGeom prst="rect">
            <a:avLst/>
          </a:prstGeom>
          <a:solidFill>
            <a:srgbClr val="f6ab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Файл:The Death of Cleopatra arthur.jpg"/>
          <p:cNvPicPr/>
          <p:nvPr/>
        </p:nvPicPr>
        <p:blipFill>
          <a:blip r:embed="rId2"/>
          <a:stretch/>
        </p:blipFill>
        <p:spPr>
          <a:xfrm>
            <a:off x="304920" y="457200"/>
            <a:ext cx="8610480" cy="5718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5943600"/>
            <a:ext cx="8610480" cy="9144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рть Клеопа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просы на стр. 2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53, вопросы, записи, рабочая тетрад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рьба Антония и Октавиана за вла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диновластие Октавиана Авгу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915400" cy="99072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1120" y="1371240"/>
            <a:ext cx="49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цом Марка Антония был Марк Антоний Кретик, матерью — Юлия Антония. В юности  Антоний отличался приверженцем пагубных привычек, транжирством и часто разгуливал по улицам вместе со своими братьями и друзьям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Файл:MarkAntony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600200"/>
            <a:ext cx="3863880" cy="4610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5791320"/>
            <a:ext cx="4038840" cy="6094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рк Анто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был внук любимой сестры Цезаря, хилый и болезненный юноша.  Во время убийства Цезаря он находился на Балканском полуострове. Где обучался военному де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айл:Acaugustus.jpg"/>
          <p:cNvPicPr/>
          <p:nvPr/>
        </p:nvPicPr>
        <p:blipFill>
          <a:blip r:embed="rId2"/>
          <a:stretch/>
        </p:blipFill>
        <p:spPr>
          <a:xfrm>
            <a:off x="762120" y="1523880"/>
            <a:ext cx="2857320" cy="4619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5791320"/>
            <a:ext cx="396252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тавиан Авгу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61800" y="1523880"/>
            <a:ext cx="8420400" cy="38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380880" y="5486400"/>
            <a:ext cx="845820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пид, Октавиан и Антоний въезжают в Р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дел территор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04920" y="1523880"/>
            <a:ext cx="8534160" cy="492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 flipH="1">
            <a:off x="5257800" y="3809880"/>
            <a:ext cx="1440" cy="22482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5600" y="5257800"/>
            <a:ext cx="171540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Октави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59680" y="4419720"/>
            <a:ext cx="144576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Авгу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43040" y="15235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славлена благодаря истории любви к римскому полководцу Марку Антонию. В годы её правления Египет был покорён Римом, сама Клеопатра покончила жизнь самоубийством, чтобы не стать пленницей первого римского императора Октавиана Авгу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Файл:Cleopatra and Caesar by Jean-Leon-Gerome.jpg"/>
          <p:cNvPicPr/>
          <p:nvPr/>
        </p:nvPicPr>
        <p:blipFill>
          <a:blip r:embed="rId2"/>
          <a:stretch/>
        </p:blipFill>
        <p:spPr>
          <a:xfrm>
            <a:off x="380880" y="1447920"/>
            <a:ext cx="391968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280" y="6095880"/>
            <a:ext cx="4191120" cy="6098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и Цез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Файл:Cleopatra visits Antony.jpg"/>
          <p:cNvPicPr/>
          <p:nvPr/>
        </p:nvPicPr>
        <p:blipFill>
          <a:blip r:embed="rId2"/>
          <a:stretch/>
        </p:blipFill>
        <p:spPr>
          <a:xfrm>
            <a:off x="482760" y="1523880"/>
            <a:ext cx="8177040" cy="490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943600"/>
            <a:ext cx="83059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плывёт к Анто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ажение у мыса Акц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Файл:Castro Battle of Actium.jpg"/>
          <p:cNvPicPr/>
          <p:nvPr/>
        </p:nvPicPr>
        <p:blipFill>
          <a:blip r:embed="rId2"/>
          <a:stretch/>
        </p:blipFill>
        <p:spPr>
          <a:xfrm>
            <a:off x="152280" y="1658880"/>
            <a:ext cx="899172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4T14:19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